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AB9-56AD-4734-9223-7CA8340F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F9D-D6E8-4CFC-ADFE-F7392653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86D-6ED1-463A-B43E-2EC3BAB8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977-0453-4E9F-B83B-FE82FE33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04A-DF30-4422-9C54-6C487B23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2B6C-FD6A-42D2-A2FF-CF8E0E89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67C-7615-482C-9837-BBAC3769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B47-30EF-4939-BB10-C079F34E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460-1897-4EA4-8959-8D10772F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8E8-6F09-434C-9F62-9CE00D57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E5D-8E48-48CD-A7E2-4144F688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E3E-32A0-43E6-9911-9D4C9B27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1A1E-C386-46F8-9929-8CD0D638C3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22936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8"/>
          <p:cNvSpPr/>
          <p:nvPr/>
        </p:nvSpPr>
        <p:spPr>
          <a:xfrm>
            <a:off x="762120" y="380880"/>
            <a:ext cx="670536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3 :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9"/>
          <p:cNvSpPr/>
          <p:nvPr/>
        </p:nvSpPr>
        <p:spPr>
          <a:xfrm>
            <a:off x="755640" y="1523880"/>
            <a:ext cx="7854840" cy="48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  pressure = for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rea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is measured in pascals (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t pressure in liquids and gases increases with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ensity and upthrust relate to floating and s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hydraulic systems magnify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e measure atmospheric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12:21Z</dcterms:modified>
  <cp:revision>18</cp:revision>
  <dc:subject>Physics for You Support File</dc:subject>
  <dc:title>Physics for You</dc:title>
</cp:coreProperties>
</file>