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459-C6CA-4390-BDF3-E8035608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9EB-C392-41E8-B82B-F223A88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C670-43F7-4DC0-828D-F2F81B88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5EF-A2DF-46BD-A8F7-5D3E03EC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D30-809F-49C1-823B-5E567AB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126-4FC7-4F0D-B371-9D5932FA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C54-F8F6-409E-88F2-C26FC77F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B9B5-8B95-4F8D-B781-4714FB74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DD5-074C-431B-B571-57DF766A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CEE-AF49-4945-B4DF-94A8934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9B2-9658-410F-8939-318C126B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93CE-8D29-40B4-9396-5D05322B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4108-0582-4531-BFF8-F8C479304E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157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762120" y="1371600"/>
            <a:ext cx="792468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file contains the Plenary for this chapter in </a:t>
            </a:r>
            <a:br>
              <a:rPr sz="2000"/>
            </a:br>
            <a:r>
              <a:rPr b="0" i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hysic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the PowerPoint of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how well they have understood each section of work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3 –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5564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3 :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55640" y="1052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sure =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unit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er squar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(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755640" y="2421000"/>
            <a:ext cx="4176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brick and the fork are each pressed downwards with a force of 30 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one will sink into the ground furth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5"/>
          <p:cNvGrpSpPr/>
          <p:nvPr/>
        </p:nvGrpSpPr>
        <p:grpSpPr>
          <a:xfrm>
            <a:off x="5651640" y="2793960"/>
            <a:ext cx="863640" cy="1081080"/>
            <a:chOff x="5651640" y="2793960"/>
            <a:chExt cx="863640" cy="1081080"/>
          </a:xfrm>
        </p:grpSpPr>
        <p:sp>
          <p:nvSpPr>
            <p:cNvPr id="49" name="Line 6"/>
            <p:cNvSpPr/>
            <p:nvPr/>
          </p:nvSpPr>
          <p:spPr>
            <a:xfrm>
              <a:off x="6156360" y="329868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5651640" y="2793960"/>
              <a:ext cx="863640" cy="45972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30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5003640" y="2362320"/>
            <a:ext cx="3600720" cy="278136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9"/>
          <p:cNvGrpSpPr/>
          <p:nvPr/>
        </p:nvGrpSpPr>
        <p:grpSpPr>
          <a:xfrm>
            <a:off x="5435640" y="3370320"/>
            <a:ext cx="863640" cy="1081080"/>
            <a:chOff x="5435640" y="3370320"/>
            <a:chExt cx="863640" cy="1081080"/>
          </a:xfrm>
        </p:grpSpPr>
        <p:sp>
          <p:nvSpPr>
            <p:cNvPr id="53" name="Line 10"/>
            <p:cNvSpPr/>
            <p:nvPr/>
          </p:nvSpPr>
          <p:spPr>
            <a:xfrm>
              <a:off x="5940360" y="387504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1"/>
            <p:cNvSpPr/>
            <p:nvPr/>
          </p:nvSpPr>
          <p:spPr>
            <a:xfrm>
              <a:off x="5435640" y="3370320"/>
              <a:ext cx="863640" cy="45972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30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2"/>
          <p:cNvGrpSpPr/>
          <p:nvPr/>
        </p:nvGrpSpPr>
        <p:grpSpPr>
          <a:xfrm>
            <a:off x="7451640" y="3443400"/>
            <a:ext cx="863640" cy="1081080"/>
            <a:chOff x="7451640" y="3443400"/>
            <a:chExt cx="863640" cy="1081080"/>
          </a:xfrm>
        </p:grpSpPr>
        <p:sp>
          <p:nvSpPr>
            <p:cNvPr id="56" name="Line 13"/>
            <p:cNvSpPr/>
            <p:nvPr/>
          </p:nvSpPr>
          <p:spPr>
            <a:xfrm>
              <a:off x="7956360" y="394812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7451640" y="3443400"/>
              <a:ext cx="863640" cy="45972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30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Text Box 15"/>
          <p:cNvSpPr/>
          <p:nvPr/>
        </p:nvSpPr>
        <p:spPr>
          <a:xfrm>
            <a:off x="755640" y="530532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lain wh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is should happen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word ‘pressure’ 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55640" y="1052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sure =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______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units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er squar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(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___________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755640" y="38088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3 :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38600" y="1071720"/>
            <a:ext cx="10810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191120" y="1071720"/>
            <a:ext cx="10810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952720" y="1450800"/>
            <a:ext cx="1368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ew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6019920" y="1447920"/>
            <a:ext cx="136836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e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4038480" y="1820880"/>
            <a:ext cx="190512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scals, 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66680" y="47214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fork, of cour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971640" y="601992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More pressure on ground from fork, because of smaller ar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755640" y="2421000"/>
            <a:ext cx="4176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brick and the fork are each pressed downwards with a force of 30 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one will sink into the ground furth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755640" y="530532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xplain wh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is should happen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the word ‘pressure’ 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5651640" y="2793960"/>
            <a:ext cx="863640" cy="1081080"/>
            <a:chOff x="5651640" y="2793960"/>
            <a:chExt cx="863640" cy="1081080"/>
          </a:xfrm>
        </p:grpSpPr>
        <p:sp>
          <p:nvSpPr>
            <p:cNvPr id="72" name="Line 15"/>
            <p:cNvSpPr/>
            <p:nvPr/>
          </p:nvSpPr>
          <p:spPr>
            <a:xfrm>
              <a:off x="6156360" y="329868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651640" y="2793960"/>
              <a:ext cx="863640" cy="45972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30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" name="Picture 17" descr=""/>
          <p:cNvPicPr/>
          <p:nvPr/>
        </p:nvPicPr>
        <p:blipFill>
          <a:blip r:embed="rId1"/>
          <a:stretch/>
        </p:blipFill>
        <p:spPr>
          <a:xfrm>
            <a:off x="5003640" y="2362320"/>
            <a:ext cx="3600720" cy="2781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8"/>
          <p:cNvGrpSpPr/>
          <p:nvPr/>
        </p:nvGrpSpPr>
        <p:grpSpPr>
          <a:xfrm>
            <a:off x="5435640" y="3370320"/>
            <a:ext cx="863640" cy="1081080"/>
            <a:chOff x="5435640" y="3370320"/>
            <a:chExt cx="863640" cy="1081080"/>
          </a:xfrm>
        </p:grpSpPr>
        <p:sp>
          <p:nvSpPr>
            <p:cNvPr id="76" name="Line 19"/>
            <p:cNvSpPr/>
            <p:nvPr/>
          </p:nvSpPr>
          <p:spPr>
            <a:xfrm>
              <a:off x="5940360" y="387504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5435640" y="3370320"/>
              <a:ext cx="863640" cy="45972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30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21"/>
          <p:cNvGrpSpPr/>
          <p:nvPr/>
        </p:nvGrpSpPr>
        <p:grpSpPr>
          <a:xfrm>
            <a:off x="7451640" y="3443400"/>
            <a:ext cx="863640" cy="1081080"/>
            <a:chOff x="7451640" y="3443400"/>
            <a:chExt cx="863640" cy="1081080"/>
          </a:xfrm>
        </p:grpSpPr>
        <p:sp>
          <p:nvSpPr>
            <p:cNvPr id="79" name="Line 22"/>
            <p:cNvSpPr/>
            <p:nvPr/>
          </p:nvSpPr>
          <p:spPr>
            <a:xfrm>
              <a:off x="7956360" y="3948120"/>
              <a:ext cx="0" cy="576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7451640" y="3443400"/>
              <a:ext cx="863640" cy="45972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30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12:54Z</dcterms:modified>
  <cp:revision>31</cp:revision>
  <dc:subject>Physics for You Support File</dc:subject>
  <dc:title>Physics for You</dc:title>
</cp:coreProperties>
</file>